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2" name="TextBox 15"/>
          <p:cNvSpPr/>
          <p:nvPr/>
        </p:nvSpPr>
        <p:spPr>
          <a:xfrm>
            <a:off x="152280" y="6172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mes of the members of y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Box 16"/>
          <p:cNvSpPr/>
          <p:nvPr/>
        </p:nvSpPr>
        <p:spPr>
          <a:xfrm>
            <a:off x="4094280" y="6172200"/>
            <a:ext cx="212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r tutorial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TextBox 17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FD37-F1E2-4F3E-8601-C3634A89411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5"/>
          <p:cNvSpPr/>
          <p:nvPr/>
        </p:nvSpPr>
        <p:spPr>
          <a:xfrm>
            <a:off x="152280" y="6172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mes of the members of y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6"/>
          <p:cNvSpPr/>
          <p:nvPr/>
        </p:nvSpPr>
        <p:spPr>
          <a:xfrm>
            <a:off x="4094280" y="6172200"/>
            <a:ext cx="212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r tutorial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7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71DA-3C53-463F-9CC5-2ACA8B32F08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top.pn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Footer Placeholder 4"/>
          <p:cNvSpPr/>
          <p:nvPr/>
        </p:nvSpPr>
        <p:spPr>
          <a:xfrm>
            <a:off x="990720" y="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r Tutorial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1" descr="druplicon.small.png"/>
          <p:cNvPicPr/>
          <p:nvPr/>
        </p:nvPicPr>
        <p:blipFill>
          <a:blip r:embed="rId5"/>
          <a:stretch/>
        </p:blipFill>
        <p:spPr>
          <a:xfrm>
            <a:off x="609480" y="65160"/>
            <a:ext cx="609840" cy="69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top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09556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4"/>
          <p:cNvSpPr/>
          <p:nvPr/>
        </p:nvSpPr>
        <p:spPr>
          <a:xfrm>
            <a:off x="1600200" y="304920"/>
            <a:ext cx="69343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oken Tuto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Your Tutorial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druplicon.small.png"/>
          <p:cNvPicPr/>
          <p:nvPr/>
        </p:nvPicPr>
        <p:blipFill>
          <a:blip r:embed="rId2"/>
          <a:stretch/>
        </p:blipFill>
        <p:spPr>
          <a:xfrm>
            <a:off x="914400" y="228600"/>
            <a:ext cx="106668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590920" y="15238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onal quick intro of your tuto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22080" y="2286000"/>
            <a:ext cx="789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655000" y="4002120"/>
            <a:ext cx="383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ript: Your team member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rration: Your team member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organ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505320" y="51166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e: dd MMMM yyy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343080" y="2182680"/>
            <a:ext cx="845820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ken Tutoria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par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supported by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HRD, Government of Ind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information on this project is available a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/NMEICT-In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re Drupal tutorials are available 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oken-tutorial.org/wiki/index.php/Dru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1:07:03Z</dcterms:created>
  <dc:creator>Rahul Singla</dc:creator>
  <dc:description/>
  <dc:language>en-US</dc:language>
  <cp:lastModifiedBy>Rahul Singla</cp:lastModifiedBy>
  <dcterms:modified xsi:type="dcterms:W3CDTF">2010-11-29T06:16:39Z</dcterms:modified>
  <cp:revision>68</cp:revision>
  <dc:subject/>
  <dc:title>Slide 1</dc:title>
</cp:coreProperties>
</file>